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AF8D-ED18-435A-980D-C2B29EB1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289B-AE16-435A-939D-A7809353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0C75-47D7-4615-9E7D-DE2133E0F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85B1-F063-4F04-B695-58C47D3B5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1F56-3A8E-4956-B127-4E7C39BE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4B8A-9822-435D-87FD-AF23A2BA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85F4-5F4F-433F-BE82-685F9536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DC98-5B5D-4809-87E9-D5CE9FF6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224B-806F-432C-93F2-BB3C4D2E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DE8A-A6C4-4E1F-ACD2-D0F248AF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EE72-957F-464F-94C2-1013D3FB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9734-F104-4FDE-A7C3-4BE476B7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F32B61-147E-43AD-B102-CBC04844CA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B41114-3A4D-487A-BF9B-0C2A3D8176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area-due 3rd June, Tues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As Part of Final Module 4 Poster Assessmen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You must get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lored picture of your dream h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lored picture of  your dream bed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lored picture of anything else interesting in our outside your h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Floor plans written in Span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ee the model pictures of what you must bring to class on Tuesda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Casa de mis sueñ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571464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ct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red Picture of your Dream H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(make it bigger than th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spanish house.jpg"/>
          <p:cNvPicPr/>
          <p:nvPr/>
        </p:nvPicPr>
        <p:blipFill>
          <a:blip r:embed="rId1"/>
          <a:stretch/>
        </p:blipFill>
        <p:spPr>
          <a:xfrm>
            <a:off x="838080" y="1143000"/>
            <a:ext cx="73659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. Colored picture of anything else interesting in or outside your house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(print it bigger than this for poster)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3" descr="guitarSwimmingPool.jpg"/>
          <p:cNvPicPr/>
          <p:nvPr/>
        </p:nvPicPr>
        <p:blipFill>
          <a:blip r:embed="rId1"/>
          <a:stretch/>
        </p:blipFill>
        <p:spPr>
          <a:xfrm>
            <a:off x="2743200" y="1760400"/>
            <a:ext cx="441972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lored picture of the room of your dreams.</a:t>
            </a:r>
            <a:r>
              <a:rPr b="0" i="1" lang="es-ES" sz="3600" spc="-1" strike="noStrike">
                <a:solidFill>
                  <a:srgbClr val="000000"/>
                </a:solidFill>
                <a:latin typeface="Calibri"/>
              </a:rPr>
              <a:t>(print bigger than this for poste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 dream bedrooms"/>
          <p:cNvPicPr/>
          <p:nvPr/>
        </p:nvPicPr>
        <p:blipFill>
          <a:blip r:embed="rId1"/>
          <a:stretch/>
        </p:blipFill>
        <p:spPr>
          <a:xfrm>
            <a:off x="990720" y="1600200"/>
            <a:ext cx="726732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 Names of rooms must be written in  Spanish…be sure to include the articles el/la/los/las! “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ormitorio de mis padres”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e p. 64 for correct vocabulary to use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ain Floor-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bajo hay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main floor.gif"/>
          <p:cNvPicPr/>
          <p:nvPr/>
        </p:nvPicPr>
        <p:blipFill>
          <a:blip r:embed="rId1"/>
          <a:stretch/>
        </p:blipFill>
        <p:spPr>
          <a:xfrm>
            <a:off x="1600200" y="1182600"/>
            <a:ext cx="426708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87480"/>
            <a:ext cx="8686800" cy="15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loor plans upstairs…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rriba hay…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Write names of rooms in Spanish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be sure to include articles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l/la/los/la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upper floor.gif"/>
          <p:cNvPicPr/>
          <p:nvPr/>
        </p:nvPicPr>
        <p:blipFill>
          <a:blip r:embed="rId1"/>
          <a:stretch/>
        </p:blipFill>
        <p:spPr>
          <a:xfrm>
            <a:off x="5259240" y="441360"/>
            <a:ext cx="388476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3:43:52Z</dcterms:created>
  <dc:creator>Mac</dc:creator>
  <dc:description/>
  <dc:language>en-US</dc:language>
  <cp:lastModifiedBy>wanda.snowfrost</cp:lastModifiedBy>
  <dcterms:modified xsi:type="dcterms:W3CDTF">2014-05-27T03:54:02Z</dcterms:modified>
  <cp:revision>24</cp:revision>
  <dc:subject/>
  <dc:title>La Casa de mis sueños</dc:title>
</cp:coreProperties>
</file>